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wmf" ContentType="image/x-wmf"/>
  <Override PartName="/ppt/media/image28.png" ContentType="image/png"/>
  <Override PartName="/ppt/media/image7.jpeg" ContentType="image/jpeg"/>
  <Override PartName="/ppt/media/image20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24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BD5-FA94-49D4-99F5-8F5CD900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3C2-FCE0-4C2F-8699-7671D9A4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985-C05F-4380-83A9-6AE9540F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18A-6C6F-4BE2-8568-5EE9B6B0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4E0-8589-4586-BB55-6CC989C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8BA-BAFC-4F4A-A60A-A268AA95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F1B-E355-4E01-B41B-9ED84EE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1F6-667D-485A-B2EC-47638D59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E66-EB18-4669-A927-0F2114D4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882-A3D7-41BE-A7D4-35DA2A8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949-8708-4EBB-9C97-0D50B370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A7D-8A9A-49B4-A11B-7CB9647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11D-A02E-42C4-98EC-A0BE7F65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17960" y="53352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81080" y="251460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ИЗИОЛОГИЈА БУБРЕГ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97720" y="571500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Проф. др Сузана Пант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44040" y="350532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7. наставна јединица (седма недељ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51280" y="914040"/>
            <a:ext cx="43927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актори који утичу на пропус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љив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ост гломерулске мемб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дијаметар пора гломерулске мембране је 8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аелектрисањ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базална мембрана садржи негативно наелектрисане протеогликане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ител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ћели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 су такођ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наелектрисан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лбумини имају дијаметар од 6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али не пролазе гломерулску мембрану због тога што су негативно наелектриса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Састав гломерулског филтрата одговара саставу плазме без протеина (мање од 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0.3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/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608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4000" y="6922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ломерулс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 филтрациј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ва фаза стварања мокр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2362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ормалним физиолошким условима брз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ломерулске филтрације код одрасле особе износ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5 ml/m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oк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0 литара на да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5219640" cy="61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гломерул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ким капилар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повећава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гломерулског притиска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6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капсули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8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плазме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32 mmHg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28 mmHg на почетку и 36 mmHg на крају гломерулских капилара због филтрирања 20% плазм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апсули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mHg (нема филтрације протеина у гломерул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притиса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нето-притисак који узрокује филтрацију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коефицијент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12.5 ml/мин/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Величина гломерулске филтрациј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5 ml/мин (18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днев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ракција филтр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величина гломерулске филтрације : проток плазме кроз бубрег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2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Квантитативни односи тубулских процеса за поједин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2286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Тубулска реапсорп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лтрација=брзина гломерул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 филтрације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лазм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апсорпција – селективан процес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685800" y="2209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у нормалним, физиолошким условима износ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78.5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/д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А. Трансцелуларни транспор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ни транспорти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) примарни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Nа,К-АТP-аза, секреција H јона (завршни дистални тубул))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) секундарн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ранспорт глукозе или аминокиселина са натријумом, контратранспорт H/Nа јона (проксимални тубули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асивни транспор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219320" y="228600"/>
            <a:ext cx="6778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Путеви транспорта воде и електролита из лумена бубрежних тубула у интерстицијум и перитубуларне капиларе (реапсорпција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Б. Парацелуларни транспор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ранспорт кроз просторе између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Ц. Ултрафилтрација (масовни ток) –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0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Тубулски транспортни максимум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максимална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ко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м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е нек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упстанц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у тубулима може реапсорбовати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(зависи од сатурације специфичних транспортних систе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2438280"/>
            <a:ext cx="54864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Бубрежни п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раг" за супстанце које имају тубул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ски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 транспортни максиму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ља ниво у плазми на коме с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пста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ви пут појављује у урину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концентрација у филтрату ће бити изна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брежног праг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419720"/>
            <a:ext cx="5105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пример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37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7.77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(Т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аг за глукозу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                -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200 mg/100 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22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убулско оптерећење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glu: 12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94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517480" y="30492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114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Функције проксим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2/3 укупне количине воде и е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Na, Cl, бикарбоната, К,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а ресорпција глукозе и аминокиселина (котран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H јона (секундарни активни транспорт – контратранспорт са 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органских киселина и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асивна апсорпција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4446360" cy="449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танког сегмента (десцендентног и асцендентног)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ма активног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сцендентни део танког сегмента Хенлеове петље је високо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сцендентни део танког сегмента Хенлеове је не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ФУНКЦИОНАЛНО-АНАТОМСКЕ ОСНОВЕ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НАЛНОГ СИСТЕМ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634160" cy="434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472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дебелог сегмента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кундар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ктив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К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што је посредовано 1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a, 2-Cl, 1 K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транспор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 дебелом асцендентном краку постоји и значајна парацелуларна реапсорпција катјона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C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бели асцендентни крак ј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ска течност постаје веома разређена у свом току према дисталном тубулу.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чај за механизме који контролишу концент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у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истални тубул има два функционална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рани дистални тубул (дилуциони сег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завршни дистални тубул и 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дилуционог сег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сте функције као дебели сегмент Хенл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е петље (активни 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, К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је завршног дист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у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ктивна ресорп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 и секреција К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 главним ћелија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завршног дисталног тубул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– значај у контроли концентрације ових јон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алдостеро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стимулиш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a-K-ATP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зне пумп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јона (примарни транспорт – интеркалатне ћелије), концентрисање до 1000x – значај у контроли ацидобазне равнот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воду без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у присуств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постаје пропу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3123720"/>
            <a:ext cx="2438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Транспорт воде и електролита из лумена бубрежних тубула у интерстицијум и перитубулске капиларе (силе које детерминишу обим враћања у кр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04920" y="304920"/>
            <a:ext cx="853416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ација тубулске реапсорпциј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у нормалним, физиолошким условима износи 178.5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/д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Гломерулотубулска равнотежа (способност тубула да повећају брзину реапсорпције у одговору на повећање тубулског оптерећ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Физичке силе перитубулских капилара и бубрежне интерстицијумске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6094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Бубрежни клиренс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 - clea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истити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је: запремина плазме која се потпуно очисти од неке супстанце бубрезима у јединици врем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ml/min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лиренс плазме за неку супстанцу се израчунава по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819520" y="2895480"/>
          <a:ext cx="304776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0477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2438280" y="4876920"/>
            <a:ext cx="5562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мокра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V 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- излучена мокраћа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плазм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упстанца која се само филтрира (нема реапсорпције ни секреције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ули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креатини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делимич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лектролит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укоз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мино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секрет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парааминохипурна киселин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H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)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ра протока плазме кроз бубреге (око 625 мл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049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линички важни килре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</a:rPr>
              <a:t>Слика бубрежне обраде четири хипотетичке супстанце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606600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За клиничко одређивањ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елич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 (брзине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ломерулске филтрације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ајчешће се употребљава 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креатини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иако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ије савршен маркер за величину гломерулске филтрације зато што се у малој количини секретује у тубулим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4067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убрежни механизам за излучивање разређене мокра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реапсорпцију електролита која почиње у дебелом сегменту асцендентног крака Хенлејеве петље не прати реапсорпција воде (филтрат се дилуи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како у крви нема 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излучује се разређена мокра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96908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681840" y="83808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7920" y="2057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умноживач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измењив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4920" y="1066680"/>
            <a:ext cx="8534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Бубрежни механизми за излучивање концентрисане мокраће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- противструјни механизам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одвија се у медули бубрега уз учешће јукстамедуларних нефрона и vasa recta) обухв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5520" y="53352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Хенлеове петље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асивна дифузија урее из сабирних цеви у интерстициј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33520" y="228600"/>
            <a:ext cx="8076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ПРОТИВСТРУЈНИ 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Повећање пропустљивости за воду епителних ћелија завршног дисталног тубула, кортикалних и медуларних сабирних каналића под дејством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3. Задржавање вишка електролита у медуларном интерстициј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2895480"/>
            <a:ext cx="38862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противструјни измењивачки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еханизам у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vasa recta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бавезна запремина мокр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0.5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slika 37-16"/>
          <p:cNvPicPr/>
          <p:nvPr/>
        </p:nvPicPr>
        <p:blipFill>
          <a:blip r:embed="rId1"/>
          <a:stretch/>
        </p:blipFill>
        <p:spPr>
          <a:xfrm>
            <a:off x="4343400" y="380880"/>
            <a:ext cx="3816360" cy="487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7224840" y="4038480"/>
            <a:ext cx="19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3690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лучивање највеће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ла крајњих продуката метаб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запремине и састава телесних течности (осмолалности телесних тецности и концентрације електрол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цидо-базне равнот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ртеријског прит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ција хормона, метаболизам и екскре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иконеоге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4937400" cy="512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78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Механизам повећања концентрације урее у мокраћи и медуларном интерстицијуму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уреа доприноси (40%) хиперосмоларности бубрежног медуларног интерстицијума и концентрисању мокраћ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дебео крак Хенлеове петље, дистални тубул и кортикални сабирни тубул су релативно непропустљиви за уреу и овде се реапсорбује мало ур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медуларни део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је умерено пропустан за уре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пропустност кортикал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воду у присуству ADH се повећава више него за уреу (за уреу су скоро непропустљиви) па се концентрација урее у сабирним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им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додатно повећ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у присуству ADH пропустност медулар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уреу се повећава и уреа дифундује (услед концентрационог градијента) у интерстицијум мед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умерени део урее, који се креће у медуларни интерстицијум, на крају дифундује у танак крак Хенлеове петље, па пролази навише кроз асцедентни крак и кроз систем тубула опет назад у медуларни сабирни канал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952880" y="404640"/>
            <a:ext cx="4091040" cy="444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012000" y="4941720"/>
            <a:ext cx="3024000" cy="14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стем осмонатријумских рецептора и ADH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(механиза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већање осмоларности екстрацелуларне течности подражава осморецепторе смештене у AV3V подруч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подражавају супраоптичка једра хипоталамуса (вероватно изазивају и осећај жеђ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стварају ADH који се ослобађа у циркулацију у неурохипофи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04920" y="4572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Механизми за контролу осмоларности и концентрације натријума у екстрацелуларној теч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711600" cy="524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924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ADH долази до бубрега и везује се за базолатерални део мембране епителних ћелија сабирних канал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ира се аденил-цик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овећава се концентрација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AMP дифундује до луминалне мембране и узрокује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везикул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имају аквапор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езикуле омогућавају транспорт воде кроз епите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ода се реапсорбује у екстрацелуларну течност и укупна осмоларност се враћа на жељену вред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10080" y="333360"/>
            <a:ext cx="343548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 секрецију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1080" cy="45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контролу жеђ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164440" cy="37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4087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ОНАЛНА АНАТОМИЈ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нефрон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ефро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основна функционалана јединица бубрега (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тој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 000 000 нефрона у једном бубрег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 40. год., број функционалних нефрона се смањује за око 10% сваких 10 г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Делови нефр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Гломеру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роз који се филтрира велика количина течности из крви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Тубулски сист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у којем се филтрирана течност претвара у мокраћ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135320" y="762120"/>
            <a:ext cx="5008680" cy="554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640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ломерул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an-овој капс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ферентна артериола (крв улази у гломер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ферентна артериола (крв излази из гломер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424044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булски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роксим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енл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а петљ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. де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. а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. асцендентни (дебели) сегмент (на зав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тку одмах до проксималног дела дисталног тубула се налази macula den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ист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бир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едулар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Врсте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кортикални нефро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80%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мају кратке Хенлеове петље које продиру само делимично у медул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ј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тварањ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јукстамедуларни нефрон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(20%), имају дуге Хенлеове петље које се протежу дубоко у медулу – функција: стварање и концентрисање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актерист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дугачки танки сегмент Хенлеове 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vasa recta (специјализовани перитубулски капилари који се спуштају дуб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 медулу пратећи Хенлеову петљ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70664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Екскрециј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излучи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мокраћни канали) мокраће у бубрежном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исте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. филтрација (гломер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2. реапсорп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3. секре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6920" y="6019920"/>
            <a:ext cx="90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Уринарна е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кскрециј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05080" cy="465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СНОВНЕ КОМПОНЕНТЕ БУБРЕЖ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33720" y="3805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Функционална грађа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гломерулске мемб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1219320"/>
            <a:ext cx="4038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омерулска капиларна мембран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је слична мембрани осталих капилара с тим ш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ма три сло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дотел капилар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фенестриран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б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залну мембран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састављена од мреже колагена и протеогликанских филамената који с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електриса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ој епителних ћелиј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имају процепе тзв. пукотинасте поре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у наелектрисан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slika 37-02"/>
          <p:cNvPicPr/>
          <p:nvPr/>
        </p:nvPicPr>
        <p:blipFill>
          <a:blip r:embed="rId1"/>
          <a:stretch/>
        </p:blipFill>
        <p:spPr>
          <a:xfrm>
            <a:off x="4419720" y="1295280"/>
            <a:ext cx="4398840" cy="4089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038480" y="5638680"/>
            <a:ext cx="5105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Слика: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Структу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гломерула.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ресек кроз васкуларни пол који показује капиларну петљу.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Однос мезангијалних ћелија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подоцита гломерулских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таљ како подоцити образују прорезе на базалној ламини, и однос између ламине и ендотела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већање правоугаоника уцртаног на слици В да би се приказали израштаји подоцита. Нејасан материјал на њиховим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овршинама представља гломерулске полианј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7:57:18Z</dcterms:created>
  <dc:creator>PC HOME</dc:creator>
  <dc:description/>
  <dc:language>en-US</dc:language>
  <cp:lastModifiedBy>SP</cp:lastModifiedBy>
  <dcterms:modified xsi:type="dcterms:W3CDTF">2019-10-29T12:46:24Z</dcterms:modified>
  <cp:revision>53</cp:revision>
  <dc:subject/>
  <dc:title>Slide 1</dc:title>
</cp:coreProperties>
</file>